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1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2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90720" y="767880"/>
            <a:ext cx="5108400" cy="382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3200" spc="-1" strike="noStrike">
                <a:solidFill>
                  <a:srgbClr val="6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70720" cy="45943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Num" idx="1"/>
          </p:nvPr>
        </p:nvSpPr>
        <p:spPr>
          <a:xfrm>
            <a:off x="402084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17091C-FFA4-4F1C-AAF4-848A256543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393954-389F-4CAD-974B-DB9076D84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B24ACC-BCFC-4C55-9FD8-B521B71D4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126AEB-47B6-4211-9CC5-A839F1038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48C887-4E1B-4595-B34C-196302A2C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AF8AD1-0F34-4973-8DED-19490B838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347816-8A6A-462A-A5F9-086022B49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516446-BF82-447D-AC2D-E5FC97A7E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F8D5D6-8982-4E3D-A185-58365ED91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A32F32-68EE-47F9-A9E9-B8E75099F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91EDAB-23CC-4110-A3FD-AF1412B01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5BBED0-2274-4BEA-B31A-67E00E934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DD7ED1-3505-4923-8146-B7FD65DF1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796FE9-CA51-4915-95BF-44D72074D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42CBAC-8F81-4FF0-85FF-16241A298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2178E0-FE0D-4FA6-94AB-6BFF4A266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DA7686-EB07-4B4A-A2B2-1E163A94D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B9ECC5-9D2C-497A-87F9-4956FAB0B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385F4C-D7D1-4CAE-BACF-5341DF4B8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F1B05E-28DE-4F3F-956E-D78D8B1E6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AF4C92-B0A2-41A9-98C9-1E5A4A6C0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A6C934-C72D-4445-A32B-5840B1FD4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8C3206-0890-45CC-9E6E-73A2A68E0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B06C45-B183-40D6-AB28-BC972652E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090047-02A5-4C8D-8BBB-7AEC7045A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102A4E-1DA5-4542-A140-6BF8F6903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AC2918-5112-49AD-BAF0-60E3E6350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3F4614-B1C9-43E6-AE72-DC44BBCD6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6E8B2E-414E-4138-85D7-586D8AF0D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6DCF97-6727-4410-A576-0DEF92618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822024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3040" y="3732120"/>
            <a:ext cx="822024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415040" y="112500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03040" y="373212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415040" y="373212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26467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982600" y="1125000"/>
            <a:ext cx="26467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761800" y="1125000"/>
            <a:ext cx="26467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03040" y="3732120"/>
            <a:ext cx="26467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2982600" y="3732120"/>
            <a:ext cx="26467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761800" y="3732120"/>
            <a:ext cx="26467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03040" y="1125000"/>
            <a:ext cx="8220240" cy="499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822024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12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15040" y="1125000"/>
            <a:ext cx="401112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02680" y="360360"/>
            <a:ext cx="87663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15040" y="1125000"/>
            <a:ext cx="401112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03040" y="373212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03040" y="1125000"/>
            <a:ext cx="8220240" cy="499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12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15040" y="112500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415040" y="373212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15040" y="112500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03040" y="3732120"/>
            <a:ext cx="822024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822024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03040" y="3732120"/>
            <a:ext cx="822024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15040" y="112500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03040" y="373212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15040" y="373212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26467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982600" y="1125000"/>
            <a:ext cx="26467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761800" y="1125000"/>
            <a:ext cx="26467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03040" y="3732120"/>
            <a:ext cx="26467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982600" y="3732120"/>
            <a:ext cx="26467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761800" y="3732120"/>
            <a:ext cx="26467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822024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12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15040" y="1125000"/>
            <a:ext cx="401112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202680" y="360360"/>
            <a:ext cx="87663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15040" y="1125000"/>
            <a:ext cx="401112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03040" y="373212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12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15040" y="112500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415040" y="373212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15040" y="112500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03040" y="3732120"/>
            <a:ext cx="822024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1"/>
          <p:cNvGraphicFramePr/>
          <p:nvPr/>
        </p:nvGraphicFramePr>
        <p:xfrm>
          <a:off x="7861320" y="6343560"/>
          <a:ext cx="1176480" cy="412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61320" y="6343560"/>
                    <a:ext cx="117648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02680" y="360360"/>
            <a:ext cx="87663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6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03040" y="1125000"/>
            <a:ext cx="822024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4" descr=""/>
          <p:cNvPicPr/>
          <p:nvPr/>
        </p:nvPicPr>
        <p:blipFill>
          <a:blip r:embed="rId4"/>
          <a:stretch/>
        </p:blipFill>
        <p:spPr>
          <a:xfrm>
            <a:off x="6881760" y="6399360"/>
            <a:ext cx="863640" cy="382320"/>
          </a:xfrm>
          <a:prstGeom prst="rect">
            <a:avLst/>
          </a:prstGeom>
          <a:ln w="0">
            <a:noFill/>
          </a:ln>
        </p:spPr>
      </p:pic>
      <p:sp>
        <p:nvSpPr>
          <p:cNvPr id="5" name="Rectangle 5"/>
          <p:cNvSpPr/>
          <p:nvPr/>
        </p:nvSpPr>
        <p:spPr>
          <a:xfrm>
            <a:off x="0" y="1000080"/>
            <a:ext cx="9150480" cy="46080"/>
          </a:xfrm>
          <a:prstGeom prst="rect">
            <a:avLst/>
          </a:prstGeom>
          <a:gradFill rotWithShape="0">
            <a:gsLst>
              <a:gs pos="0">
                <a:srgbClr val="6a839c"/>
              </a:gs>
              <a:gs pos="100000">
                <a:srgbClr val="c8d1d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1440" y="928800"/>
            <a:ext cx="9150480" cy="27000"/>
          </a:xfrm>
          <a:prstGeom prst="rect">
            <a:avLst/>
          </a:prstGeom>
          <a:gradFill rotWithShape="0">
            <a:gsLst>
              <a:gs pos="0">
                <a:srgbClr val="6a839c"/>
              </a:gs>
              <a:gs pos="100000">
                <a:srgbClr val="c8d1d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0" y="960480"/>
            <a:ext cx="9150480" cy="46080"/>
          </a:xfrm>
          <a:prstGeom prst="rect">
            <a:avLst/>
          </a:prstGeom>
          <a:gradFill rotWithShape="0">
            <a:gsLst>
              <a:gs pos="0">
                <a:srgbClr val="c8d1d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8"/>
          <p:cNvSpPr/>
          <p:nvPr/>
        </p:nvSpPr>
        <p:spPr>
          <a:xfrm>
            <a:off x="1440" y="903240"/>
            <a:ext cx="9150480" cy="27000"/>
          </a:xfrm>
          <a:prstGeom prst="rect">
            <a:avLst/>
          </a:prstGeom>
          <a:gradFill rotWithShape="0">
            <a:gsLst>
              <a:gs pos="0">
                <a:srgbClr val="c8d1d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Rectangle 9"/>
          <p:cNvSpPr/>
          <p:nvPr/>
        </p:nvSpPr>
        <p:spPr>
          <a:xfrm>
            <a:off x="1440" y="6224760"/>
            <a:ext cx="9150480" cy="45720"/>
          </a:xfrm>
          <a:prstGeom prst="rect">
            <a:avLst/>
          </a:prstGeom>
          <a:gradFill rotWithShape="0">
            <a:gsLst>
              <a:gs pos="0">
                <a:srgbClr val="c8d1d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Rectangle 10"/>
          <p:cNvSpPr/>
          <p:nvPr/>
        </p:nvSpPr>
        <p:spPr>
          <a:xfrm>
            <a:off x="1440" y="6251400"/>
            <a:ext cx="9150480" cy="63720"/>
          </a:xfrm>
          <a:prstGeom prst="rect">
            <a:avLst/>
          </a:prstGeom>
          <a:gradFill rotWithShape="0">
            <a:gsLst>
              <a:gs pos="0">
                <a:srgbClr val="6a839c"/>
              </a:gs>
              <a:gs pos="100000">
                <a:srgbClr val="c8d1d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Rectangle 11"/>
          <p:cNvSpPr/>
          <p:nvPr/>
        </p:nvSpPr>
        <p:spPr>
          <a:xfrm>
            <a:off x="542880" y="6448320"/>
            <a:ext cx="117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Text Box 12"/>
          <p:cNvSpPr/>
          <p:nvPr/>
        </p:nvSpPr>
        <p:spPr>
          <a:xfrm>
            <a:off x="57240" y="641520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D05E4F-A95E-43BA-824D-1A2AAB534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2680" y="360360"/>
            <a:ext cx="87663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6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03040" y="1125000"/>
            <a:ext cx="822024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1328760" y="1076400"/>
            <a:ext cx="702000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600000"/>
                </a:solidFill>
                <a:latin typeface="Arial"/>
              </a:rPr>
              <a:t>Meta-Programming with Modelica</a:t>
            </a:r>
            <a:br>
              <a:rPr sz="4000"/>
            </a:br>
            <a:br>
              <a:rPr sz="3600"/>
            </a:br>
            <a:r>
              <a:rPr b="0" lang="en-US" sz="3600" spc="-1" strike="noStrike">
                <a:solidFill>
                  <a:srgbClr val="600000"/>
                </a:solidFill>
                <a:latin typeface="Arial"/>
              </a:rPr>
              <a:t>for MetaModeling and Model Transformations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319120" y="4691160"/>
            <a:ext cx="4930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Peter Fritzson, Adrian Pop, Martin Sjölu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OpenModelica Course, 2011-09-1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1"/>
          <p:cNvSpPr/>
          <p:nvPr/>
        </p:nvSpPr>
        <p:spPr>
          <a:xfrm>
            <a:off x="203040" y="6480"/>
            <a:ext cx="894096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Simple Expression Interpreter – with equation keyword, match, ca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4" name="Group 2"/>
          <p:cNvGrpSpPr/>
          <p:nvPr/>
        </p:nvGrpSpPr>
        <p:grpSpPr>
          <a:xfrm>
            <a:off x="622440" y="1536840"/>
            <a:ext cx="5902200" cy="4483080"/>
            <a:chOff x="622440" y="1536840"/>
            <a:chExt cx="5902200" cy="4483080"/>
          </a:xfrm>
        </p:grpSpPr>
        <p:sp>
          <p:nvSpPr>
            <p:cNvPr id="185" name="Rectangle 3"/>
            <p:cNvSpPr/>
            <p:nvPr/>
          </p:nvSpPr>
          <p:spPr>
            <a:xfrm>
              <a:off x="754200" y="1687680"/>
              <a:ext cx="5540400" cy="43322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Rectangle 4"/>
            <p:cNvSpPr/>
            <p:nvPr/>
          </p:nvSpPr>
          <p:spPr>
            <a:xfrm>
              <a:off x="622440" y="1536840"/>
              <a:ext cx="5575320" cy="4370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Rectangle 5"/>
            <p:cNvSpPr/>
            <p:nvPr/>
          </p:nvSpPr>
          <p:spPr>
            <a:xfrm>
              <a:off x="663480" y="1554120"/>
              <a:ext cx="5861160" cy="43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function eval "Evaluates integer expression trees"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input  Exp     exp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output Integer intval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algorithm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intval :=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matchcontinue exp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local Integer v1,v2; Exp e1,e2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case INTconst(v1) then v1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case PLUSop(e1,e2) equation 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v1 = eval(e1);  v2 = eval(e2); then v1+v2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case SUBop(e1,e2) equation 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v1 = eval(e1);  v2 = eval(e2); then v1-v2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case MULop(e1,e2) equation 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v1 = eval(e1);  v2 = eval(e2); then v1*v2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case DIVop(e1,e2) equation 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v1 = eval(e1);  v2 = eval(e2); then v1/v2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case NEGop(e1) equation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eval(e1) = v1; then  -v1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end matchcontinue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end eval;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8" name="Text Box 6"/>
          <p:cNvSpPr/>
          <p:nvPr/>
        </p:nvSpPr>
        <p:spPr>
          <a:xfrm>
            <a:off x="6975360" y="2646360"/>
            <a:ext cx="2409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600000"/>
                </a:solidFill>
                <a:latin typeface="Arial"/>
              </a:rPr>
              <a:t>Local variables with scope inside case expressi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1785960" y="2825640"/>
            <a:ext cx="2724120" cy="236520"/>
          </a:xfrm>
          <a:prstGeom prst="rect">
            <a:avLst/>
          </a:prstGeom>
          <a:solidFill>
            <a:srgbClr val="6a8388">
              <a:alpha val="25000"/>
            </a:srgbClr>
          </a:solidFill>
          <a:ln w="12600">
            <a:solidFill>
              <a:srgbClr val="6a838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8"/>
          <p:cNvSpPr/>
          <p:nvPr/>
        </p:nvSpPr>
        <p:spPr>
          <a:xfrm>
            <a:off x="4554360" y="2914560"/>
            <a:ext cx="22482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6989760" y="3801960"/>
            <a:ext cx="202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600000"/>
                </a:solidFill>
                <a:latin typeface="Arial"/>
              </a:rPr>
              <a:t>Local equations with local unknowns v1, v2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10"/>
          <p:cNvSpPr/>
          <p:nvPr/>
        </p:nvSpPr>
        <p:spPr>
          <a:xfrm>
            <a:off x="1355760" y="3935520"/>
            <a:ext cx="3233880" cy="215640"/>
          </a:xfrm>
          <a:prstGeom prst="rect">
            <a:avLst/>
          </a:prstGeom>
          <a:solidFill>
            <a:srgbClr val="6a8388">
              <a:alpha val="25000"/>
            </a:srgbClr>
          </a:solidFill>
          <a:ln w="12600">
            <a:solidFill>
              <a:srgbClr val="6a838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Line 11"/>
          <p:cNvSpPr/>
          <p:nvPr/>
        </p:nvSpPr>
        <p:spPr>
          <a:xfrm>
            <a:off x="4645080" y="3929040"/>
            <a:ext cx="208260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2"/>
          <p:cNvSpPr/>
          <p:nvPr/>
        </p:nvSpPr>
        <p:spPr>
          <a:xfrm>
            <a:off x="7000920" y="4361040"/>
            <a:ext cx="1279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600000"/>
                </a:solidFill>
                <a:latin typeface="Arial"/>
              </a:rPr>
              <a:t>A returned val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13"/>
          <p:cNvSpPr/>
          <p:nvPr/>
        </p:nvSpPr>
        <p:spPr>
          <a:xfrm>
            <a:off x="5138640" y="4329000"/>
            <a:ext cx="630360" cy="241560"/>
          </a:xfrm>
          <a:prstGeom prst="rect">
            <a:avLst/>
          </a:prstGeom>
          <a:solidFill>
            <a:srgbClr val="6a8388">
              <a:alpha val="25000"/>
            </a:srgbClr>
          </a:solidFill>
          <a:ln w="12600">
            <a:solidFill>
              <a:srgbClr val="6a838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Line 14"/>
          <p:cNvSpPr/>
          <p:nvPr/>
        </p:nvSpPr>
        <p:spPr>
          <a:xfrm>
            <a:off x="5799240" y="4451400"/>
            <a:ext cx="11048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5"/>
          <p:cNvSpPr/>
          <p:nvPr/>
        </p:nvSpPr>
        <p:spPr>
          <a:xfrm>
            <a:off x="6977160" y="3179880"/>
            <a:ext cx="2166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600000"/>
                </a:solidFill>
                <a:latin typeface="Arial"/>
              </a:rPr>
              <a:t>Pattern binding local pattern variables e1,  e2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16"/>
          <p:cNvSpPr/>
          <p:nvPr/>
        </p:nvSpPr>
        <p:spPr>
          <a:xfrm>
            <a:off x="1711440" y="3287880"/>
            <a:ext cx="1353960" cy="228600"/>
          </a:xfrm>
          <a:prstGeom prst="rect">
            <a:avLst/>
          </a:prstGeom>
          <a:solidFill>
            <a:srgbClr val="6a8388">
              <a:alpha val="25000"/>
            </a:srgbClr>
          </a:solidFill>
          <a:ln w="12600">
            <a:solidFill>
              <a:srgbClr val="6a838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Line 17"/>
          <p:cNvSpPr/>
          <p:nvPr/>
        </p:nvSpPr>
        <p:spPr>
          <a:xfrm>
            <a:off x="2981160" y="3321000"/>
            <a:ext cx="392436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1"/>
          <p:cNvSpPr/>
          <p:nvPr/>
        </p:nvSpPr>
        <p:spPr>
          <a:xfrm>
            <a:off x="203040" y="-6480"/>
            <a:ext cx="894096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Transformation Example</a:t>
            </a:r>
            <a:br>
              <a:rPr sz="2800"/>
            </a:b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Simple Symbolic Differentiat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2"/>
          <p:cNvSpPr/>
          <p:nvPr/>
        </p:nvSpPr>
        <p:spPr>
          <a:xfrm>
            <a:off x="203040" y="1125360"/>
            <a:ext cx="597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2" name="Group 3"/>
          <p:cNvGrpSpPr/>
          <p:nvPr/>
        </p:nvGrpSpPr>
        <p:grpSpPr>
          <a:xfrm>
            <a:off x="177840" y="1095480"/>
            <a:ext cx="4340160" cy="5022720"/>
            <a:chOff x="177840" y="1095480"/>
            <a:chExt cx="4340160" cy="5022720"/>
          </a:xfrm>
        </p:grpSpPr>
        <p:sp>
          <p:nvSpPr>
            <p:cNvPr id="203" name="Rectangle 4"/>
            <p:cNvSpPr/>
            <p:nvPr/>
          </p:nvSpPr>
          <p:spPr>
            <a:xfrm>
              <a:off x="247680" y="1247760"/>
              <a:ext cx="4270320" cy="48704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Rectangle 5"/>
            <p:cNvSpPr/>
            <p:nvPr/>
          </p:nvSpPr>
          <p:spPr>
            <a:xfrm>
              <a:off x="177840" y="1130400"/>
              <a:ext cx="4292640" cy="4919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Rectangle 6"/>
            <p:cNvSpPr/>
            <p:nvPr/>
          </p:nvSpPr>
          <p:spPr>
            <a:xfrm>
              <a:off x="208080" y="1095480"/>
              <a:ext cx="4224240" cy="43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protected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function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diff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inpu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Exp expr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inpu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sv-SE" sz="1400" spc="-1" strike="noStrike">
                  <a:solidFill>
                    <a:srgbClr val="00008b"/>
                  </a:solidFill>
                  <a:latin typeface="Courier New"/>
                </a:rPr>
                <a:t>String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timevar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outpu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Exp diffExpr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algorithm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diffExpr :=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matchcontinue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(expr,timevar)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local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8b"/>
                  </a:solidFill>
                  <a:latin typeface="Courier New"/>
                </a:rPr>
                <a:t>String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id,id1,id2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Exp e1prim,e2prim,e1,e2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008200"/>
                  </a:solidFill>
                  <a:latin typeface="Courier New"/>
                </a:rPr>
                <a:t>// der of constant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case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(INT(_), _)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then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INT(</a:t>
              </a:r>
              <a:r>
                <a:rPr b="0" lang="sv-SE" sz="1400" spc="-1" strike="noStrike">
                  <a:solidFill>
                    <a:srgbClr val="8b008b"/>
                  </a:solidFill>
                  <a:latin typeface="Courier New"/>
                </a:rPr>
                <a:t>0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008200"/>
                  </a:solidFill>
                  <a:latin typeface="Courier New"/>
                </a:rPr>
                <a:t>// der of time variable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case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(IDENT(id1), id2)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equation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true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= id1 ==&amp; id2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then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INT(</a:t>
              </a:r>
              <a:r>
                <a:rPr b="0" lang="sv-SE" sz="1400" spc="-1" strike="noStrike">
                  <a:solidFill>
                    <a:srgbClr val="8b008b"/>
                  </a:solidFill>
                  <a:latin typeface="Courier New"/>
                </a:rPr>
                <a:t>1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008200"/>
                  </a:solidFill>
                  <a:latin typeface="Courier New"/>
                </a:rPr>
                <a:t>// </a:t>
              </a:r>
              <a:r>
                <a:rPr b="0" lang="sv-SE" sz="1200" spc="-1" strike="noStrike">
                  <a:solidFill>
                    <a:srgbClr val="008200"/>
                  </a:solidFill>
                  <a:latin typeface="Courier New"/>
                </a:rPr>
                <a:t>der of time-independent variable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case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(IDENT(_), _)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then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INT(</a:t>
              </a:r>
              <a:r>
                <a:rPr b="0" lang="sv-SE" sz="1400" spc="-1" strike="noStrike">
                  <a:solidFill>
                    <a:srgbClr val="8b008b"/>
                  </a:solidFill>
                  <a:latin typeface="Courier New"/>
                </a:rPr>
                <a:t>0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6" name="Group 7"/>
          <p:cNvGrpSpPr/>
          <p:nvPr/>
        </p:nvGrpSpPr>
        <p:grpSpPr>
          <a:xfrm>
            <a:off x="4648320" y="1095480"/>
            <a:ext cx="4354560" cy="5046480"/>
            <a:chOff x="4648320" y="1095480"/>
            <a:chExt cx="4354560" cy="5046480"/>
          </a:xfrm>
        </p:grpSpPr>
        <p:sp>
          <p:nvSpPr>
            <p:cNvPr id="207" name="Rectangle 8"/>
            <p:cNvSpPr/>
            <p:nvPr/>
          </p:nvSpPr>
          <p:spPr>
            <a:xfrm>
              <a:off x="4719600" y="1247760"/>
              <a:ext cx="4283280" cy="48942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Rectangle 9"/>
            <p:cNvSpPr/>
            <p:nvPr/>
          </p:nvSpPr>
          <p:spPr>
            <a:xfrm>
              <a:off x="4648320" y="1130400"/>
              <a:ext cx="4305240" cy="4944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Rectangle 10"/>
            <p:cNvSpPr/>
            <p:nvPr/>
          </p:nvSpPr>
          <p:spPr>
            <a:xfrm>
              <a:off x="4676760" y="1095480"/>
              <a:ext cx="4237200" cy="456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8200"/>
                  </a:solidFill>
                  <a:latin typeface="Courier New"/>
                </a:rPr>
                <a:t>// (e1+e2)’ =&gt; e1’+e2’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case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(ADD(e1,e2),id)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equation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e1prim = diff(e1,id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e2prim = diff(e2,id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then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ADD(e1prim,e2prim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8200"/>
                  </a:solidFill>
                  <a:latin typeface="Courier New"/>
                </a:rPr>
                <a:t>// (e1/e2)’ =&gt; (e1’*e2 – e1*e2’)/e2*e2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case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(DIV(e1,e2),id)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equation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e1prim = diff(e1,id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e2prim = diff(e2,id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then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DIV(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 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SUB(MUL(e1prim,e2),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     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MUL(e1,e2prim)),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 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MUL(e2,e2)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8200"/>
                  </a:solidFill>
                  <a:latin typeface="Courier New"/>
                </a:rPr>
                <a:t>// (-e1)’ =&gt; -e1’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case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(NEG(e1),id)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equation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e1prim = diff(e1,id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then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NEG(e1prim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General Syntactic Structure of match-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2"/>
          <p:cNvSpPr/>
          <p:nvPr/>
        </p:nvSpPr>
        <p:spPr>
          <a:xfrm>
            <a:off x="203040" y="1125360"/>
            <a:ext cx="13590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2" name="Group 3"/>
          <p:cNvGrpSpPr/>
          <p:nvPr/>
        </p:nvGrpSpPr>
        <p:grpSpPr>
          <a:xfrm>
            <a:off x="1447920" y="1206360"/>
            <a:ext cx="6804000" cy="4327560"/>
            <a:chOff x="1447920" y="1206360"/>
            <a:chExt cx="6804000" cy="4327560"/>
          </a:xfrm>
        </p:grpSpPr>
        <p:sp>
          <p:nvSpPr>
            <p:cNvPr id="213" name="Rectangle 4"/>
            <p:cNvSpPr/>
            <p:nvPr/>
          </p:nvSpPr>
          <p:spPr>
            <a:xfrm>
              <a:off x="1569960" y="1325520"/>
              <a:ext cx="6681960" cy="42084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Rectangle 5"/>
            <p:cNvSpPr/>
            <p:nvPr/>
          </p:nvSpPr>
          <p:spPr>
            <a:xfrm>
              <a:off x="1447920" y="1206360"/>
              <a:ext cx="6681600" cy="4208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Rectangle 6"/>
            <p:cNvSpPr/>
            <p:nvPr/>
          </p:nvSpPr>
          <p:spPr>
            <a:xfrm>
              <a:off x="1455840" y="1222200"/>
              <a:ext cx="6638760" cy="39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matchcontinue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&lt;expr&gt;  &lt;opt-local-decl&gt;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case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&lt;pat-expr&gt;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opt-equations&gt;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then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expr&gt;</a:t>
              </a: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case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&lt;pat-expr&gt;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opt-equations&gt;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then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expr&gt;</a:t>
              </a: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els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opt-equations&gt;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then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expr&gt;</a:t>
              </a: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end </a:t>
              </a: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matchcontinue;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1"/>
          <p:cNvSpPr/>
          <p:nvPr/>
        </p:nvSpPr>
        <p:spPr>
          <a:xfrm>
            <a:off x="101520" y="231840"/>
            <a:ext cx="911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Semantics of Local Equations in match-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203040" y="1125360"/>
            <a:ext cx="845820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algebraic equations are allowed, no differential equa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locally declared variables (local unknowns) declared by local declarations within the case expression are solved f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tions are solved in the order they are declared. (This restriction may be removed in the future)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 equation or an expression in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branch of a matchcontinue-expression fails, all local variables become unbound, and matching continues with the next branch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1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1"/>
          <p:cNvSpPr/>
          <p:nvPr/>
        </p:nvSpPr>
        <p:spPr>
          <a:xfrm>
            <a:off x="101520" y="371520"/>
            <a:ext cx="911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Semantics of Local Equations  cont..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203040" y="1125360"/>
            <a:ext cx="840744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ain equations in match-expressions do not solve for any variables – they may be called "constraints"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All variables are already bound in these equ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The equation may either be fulfilled (succeed) or not (fai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Example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, there can locally be more equations than unbound variables, if including the constrai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0" name="Group 3"/>
          <p:cNvGrpSpPr/>
          <p:nvPr/>
        </p:nvGrpSpPr>
        <p:grpSpPr>
          <a:xfrm>
            <a:off x="1201680" y="3262320"/>
            <a:ext cx="4556160" cy="1596960"/>
            <a:chOff x="1201680" y="3262320"/>
            <a:chExt cx="4556160" cy="1596960"/>
          </a:xfrm>
        </p:grpSpPr>
        <p:sp>
          <p:nvSpPr>
            <p:cNvPr id="221" name="Rectangle 4"/>
            <p:cNvSpPr/>
            <p:nvPr/>
          </p:nvSpPr>
          <p:spPr>
            <a:xfrm>
              <a:off x="1282680" y="3308400"/>
              <a:ext cx="4475160" cy="15508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Rectangle 5"/>
            <p:cNvSpPr/>
            <p:nvPr/>
          </p:nvSpPr>
          <p:spPr>
            <a:xfrm>
              <a:off x="1201680" y="3262320"/>
              <a:ext cx="4475160" cy="155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local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Real x=5; Integer y = 10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equation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true = x&gt;4;   // Succeeds!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true = y&lt;10;  // Fails!!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1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List Data Structu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203040" y="1125360"/>
            <a:ext cx="869976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li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ype-expr&gt; is a list type construc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Example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 type RealList = l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Re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&gt;;   type is a list of rea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Example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 l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Re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&gt;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rlis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          variable that is a list of rea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l1,el2,el3, ...) is a list data constructor that creates a list of elements of identical typ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{}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 l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() empty lis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{2,3,4}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 l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(2,3,4) list of integ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{el1,el2,el3, ...} overloaded array or list constructor, interpreted a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...) o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...) depending on type contex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} or list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notes an empty reference to a list or tree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adds an element in front of the lis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returns the resulting list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perat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men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1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What Does PolyMorphic Mean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2"/>
          <p:cNvSpPr/>
          <p:nvPr/>
        </p:nvSpPr>
        <p:spPr>
          <a:xfrm>
            <a:off x="203040" y="1125360"/>
            <a:ext cx="894096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yMorphic – adapt to multiple typ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y – multiple, morphic – adap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64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ndard – An operation is only defined for one type, e.g.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rrayInsertElement(intelement, intArr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polymorphic function is defined for multiple types, e.g. elements in an array can be of any type: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rrayInsertElement(anyElement, anyArr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Predefined Polymorphic List Oper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203040" y="1125360"/>
            <a:ext cx="597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9" name="Group 3"/>
          <p:cNvGrpSpPr/>
          <p:nvPr/>
        </p:nvGrpSpPr>
        <p:grpSpPr>
          <a:xfrm>
            <a:off x="127080" y="1171440"/>
            <a:ext cx="4468680" cy="5021280"/>
            <a:chOff x="127080" y="1171440"/>
            <a:chExt cx="4468680" cy="5021280"/>
          </a:xfrm>
        </p:grpSpPr>
        <p:sp>
          <p:nvSpPr>
            <p:cNvPr id="230" name="Rectangle 4"/>
            <p:cNvSpPr/>
            <p:nvPr/>
          </p:nvSpPr>
          <p:spPr>
            <a:xfrm>
              <a:off x="200160" y="1324080"/>
              <a:ext cx="4395600" cy="4868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Rectangle 5"/>
            <p:cNvSpPr/>
            <p:nvPr/>
          </p:nvSpPr>
          <p:spPr>
            <a:xfrm>
              <a:off x="127080" y="1204920"/>
              <a:ext cx="4417920" cy="491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Rectangle 6"/>
            <p:cNvSpPr/>
            <p:nvPr/>
          </p:nvSpPr>
          <p:spPr>
            <a:xfrm>
              <a:off x="155520" y="1171440"/>
              <a:ext cx="4348080" cy="32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function lis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ppend&lt;Eltype&gt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list&lt;Eltype&gt; lst1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list&lt;Eltype&gt; lst2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output list&lt;Eltype&gt; lst3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d lis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ppend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function lis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verse&lt;Eltype&gt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list&lt;Eltype&gt; lst1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output list&lt;Eltype&gt; lst3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d lis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verse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function lis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gth&lt;Eltype&gt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list&lt;Eltype&gt; lst1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output Integer len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d lis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gth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3" name="Group 7"/>
          <p:cNvGrpSpPr/>
          <p:nvPr/>
        </p:nvGrpSpPr>
        <p:grpSpPr>
          <a:xfrm>
            <a:off x="4711680" y="1158840"/>
            <a:ext cx="4429080" cy="5046840"/>
            <a:chOff x="4711680" y="1158840"/>
            <a:chExt cx="4429080" cy="5046840"/>
          </a:xfrm>
        </p:grpSpPr>
        <p:sp>
          <p:nvSpPr>
            <p:cNvPr id="234" name="Rectangle 8"/>
            <p:cNvSpPr/>
            <p:nvPr/>
          </p:nvSpPr>
          <p:spPr>
            <a:xfrm>
              <a:off x="4782960" y="1311120"/>
              <a:ext cx="4357800" cy="48945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Rectangle 9"/>
            <p:cNvSpPr/>
            <p:nvPr/>
          </p:nvSpPr>
          <p:spPr>
            <a:xfrm>
              <a:off x="4711680" y="1193760"/>
              <a:ext cx="4379760" cy="4944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Rectangle 10"/>
            <p:cNvSpPr/>
            <p:nvPr/>
          </p:nvSpPr>
          <p:spPr>
            <a:xfrm>
              <a:off x="4741920" y="1158840"/>
              <a:ext cx="4309920" cy="41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function lis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mber&lt;Eltype&gt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Eltype elem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list&lt;Eltype&gt; lst2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output Boolean result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d lis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mber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function lis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th&lt;Eltype&gt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list&lt;Eltype&gt; lst1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Integer elindex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output Eltype elem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d lis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th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function lis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lete&lt;Eltype&gt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ListType lst1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Integer  elindex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output ListType lst3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type ListType = list&lt;Eltype&gt;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d lis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Delete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1"/>
          <p:cNvSpPr/>
          <p:nvPr/>
        </p:nvSpPr>
        <p:spPr>
          <a:xfrm>
            <a:off x="203040" y="19368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Function Formal Parame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2"/>
          <p:cNvSpPr/>
          <p:nvPr/>
        </p:nvSpPr>
        <p:spPr>
          <a:xfrm>
            <a:off x="203040" y="1125360"/>
            <a:ext cx="875052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s can be passed as actual arguments at function call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checking done on the function formal parameter type signature, not including the actual names of inputs and outputs to the passed function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9" name="Group 3"/>
          <p:cNvGrpSpPr/>
          <p:nvPr/>
        </p:nvGrpSpPr>
        <p:grpSpPr>
          <a:xfrm>
            <a:off x="258840" y="2111400"/>
            <a:ext cx="8883720" cy="1846080"/>
            <a:chOff x="258840" y="2111400"/>
            <a:chExt cx="8883720" cy="1846080"/>
          </a:xfrm>
        </p:grpSpPr>
        <p:sp>
          <p:nvSpPr>
            <p:cNvPr id="240" name="Rectangle 4"/>
            <p:cNvSpPr/>
            <p:nvPr/>
          </p:nvSpPr>
          <p:spPr>
            <a:xfrm>
              <a:off x="401760" y="2135160"/>
              <a:ext cx="8740800" cy="18223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Rectangle 5"/>
            <p:cNvSpPr/>
            <p:nvPr/>
          </p:nvSpPr>
          <p:spPr>
            <a:xfrm>
              <a:off x="258840" y="2111400"/>
              <a:ext cx="8740800" cy="182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function intListMap   "Map over a list of integers"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 Functype func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 list&lt;Integer&gt; inlst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output list&lt;Integer&gt; outlst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public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partial function Functype input Integer x1; output Integer x2; end Functype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algorithm  ...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d intListMap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2" name="Group 6"/>
          <p:cNvGrpSpPr/>
          <p:nvPr/>
        </p:nvGrpSpPr>
        <p:grpSpPr>
          <a:xfrm>
            <a:off x="217440" y="3975120"/>
            <a:ext cx="8925120" cy="2143080"/>
            <a:chOff x="217440" y="3975120"/>
            <a:chExt cx="8925120" cy="2143080"/>
          </a:xfrm>
        </p:grpSpPr>
        <p:sp>
          <p:nvSpPr>
            <p:cNvPr id="243" name="Rectangle 7"/>
            <p:cNvSpPr/>
            <p:nvPr/>
          </p:nvSpPr>
          <p:spPr>
            <a:xfrm>
              <a:off x="378000" y="4033800"/>
              <a:ext cx="8764560" cy="20844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Rectangle 8"/>
            <p:cNvSpPr/>
            <p:nvPr/>
          </p:nvSpPr>
          <p:spPr>
            <a:xfrm>
              <a:off x="217440" y="3975120"/>
              <a:ext cx="8764560" cy="208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Rectangle 9"/>
            <p:cNvSpPr/>
            <p:nvPr/>
          </p:nvSpPr>
          <p:spPr>
            <a:xfrm>
              <a:off x="228600" y="3979800"/>
              <a:ext cx="870588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function listMap&lt;Type_a&gt; "Map over elements of type Type_a, a type parameter"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 Functype func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 list&lt;Type_a&gt; inlst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output list&lt;Type_a&gt; outlst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partial function Functype  input Type_a x1; output Type_a x2; end Functype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algorithm  ...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d listMap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1"/>
          <p:cNvSpPr/>
          <p:nvPr/>
        </p:nvSpPr>
        <p:spPr>
          <a:xfrm>
            <a:off x="203040" y="-19080"/>
            <a:ext cx="894096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Calling Functions with Function Formal Parameters and/or Parameterized Typ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2"/>
          <p:cNvSpPr/>
          <p:nvPr/>
        </p:nvSpPr>
        <p:spPr>
          <a:xfrm>
            <a:off x="203040" y="1125360"/>
            <a:ext cx="8750520" cy="16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with passed function arguments: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_list_map(add1,intlst1)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lared using type I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iler uses type inference to derive type of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aceable type paramete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ype_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= Integ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input list 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&lt;Integer&gt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Map(add1, intlst1)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8" name="Group 3"/>
          <p:cNvGrpSpPr/>
          <p:nvPr/>
        </p:nvGrpSpPr>
        <p:grpSpPr>
          <a:xfrm>
            <a:off x="241200" y="2933640"/>
            <a:ext cx="8634600" cy="1459080"/>
            <a:chOff x="241200" y="2933640"/>
            <a:chExt cx="8634600" cy="1459080"/>
          </a:xfrm>
        </p:grpSpPr>
        <p:sp>
          <p:nvSpPr>
            <p:cNvPr id="249" name="Rectangle 4"/>
            <p:cNvSpPr/>
            <p:nvPr/>
          </p:nvSpPr>
          <p:spPr>
            <a:xfrm>
              <a:off x="396720" y="2973240"/>
              <a:ext cx="8479080" cy="14194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Rectangle 5"/>
            <p:cNvSpPr/>
            <p:nvPr/>
          </p:nvSpPr>
          <p:spPr>
            <a:xfrm>
              <a:off x="241200" y="2933640"/>
              <a:ext cx="8479080" cy="14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Rectangle 6"/>
            <p:cNvSpPr/>
            <p:nvPr/>
          </p:nvSpPr>
          <p:spPr>
            <a:xfrm>
              <a:off x="252360" y="2938320"/>
              <a:ext cx="84218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// call function intListMap   "Map over a list of integers"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list&lt;Integer&gt; intlst1 := {1,3,5,9}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list&lt;Integer&gt; intlst2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tlst2 := intListMap(add1, intlst1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2" name="Group 7"/>
          <p:cNvGrpSpPr/>
          <p:nvPr/>
        </p:nvGrpSpPr>
        <p:grpSpPr>
          <a:xfrm>
            <a:off x="254160" y="4559400"/>
            <a:ext cx="8672400" cy="1636560"/>
            <a:chOff x="254160" y="4559400"/>
            <a:chExt cx="8672400" cy="1636560"/>
          </a:xfrm>
        </p:grpSpPr>
        <p:sp>
          <p:nvSpPr>
            <p:cNvPr id="253" name="Rectangle 8"/>
            <p:cNvSpPr/>
            <p:nvPr/>
          </p:nvSpPr>
          <p:spPr>
            <a:xfrm>
              <a:off x="411120" y="4605480"/>
              <a:ext cx="8515440" cy="15904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Rectangle 9"/>
            <p:cNvSpPr/>
            <p:nvPr/>
          </p:nvSpPr>
          <p:spPr>
            <a:xfrm>
              <a:off x="254160" y="4559400"/>
              <a:ext cx="8515080" cy="1590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Rectangle 10"/>
            <p:cNvSpPr/>
            <p:nvPr/>
          </p:nvSpPr>
          <p:spPr>
            <a:xfrm>
              <a:off x="264960" y="4564080"/>
              <a:ext cx="8458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// call function listMap   "Map over a list of Type_a – a type parameter"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list&lt;Integer&gt; intlst1 := {1,3,5,9}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list&lt;Integer&gt; intlst2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tlst2 := listMap(add1, intlst1);  // The type parameter is inferred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Extensibility and Modularity of Modeling Too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20304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ing and simulation tools are too monolithi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s and tools need to be extensible and modula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ion, query, manipulation, composition and management of model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modeling of operations on mod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74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74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1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Tuple Data Structu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2"/>
          <p:cNvSpPr/>
          <p:nvPr/>
        </p:nvSpPr>
        <p:spPr>
          <a:xfrm>
            <a:off x="203040" y="1125360"/>
            <a:ext cx="877572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ples are anonymous records without field nam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ple&lt;...&gt; – tuple type constructor (keyword not needed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Example: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DejaVu Sans"/>
              </a:rPr>
              <a:t>type VarBND  = tuple&lt;Ident, Integer&gt;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Example: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DejaVu Sans"/>
              </a:rPr>
              <a:t>tuple&lt;Real,Integer&gt; realintpair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..., ..., ...) – tuple data construc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Example: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DejaVu Sans"/>
              </a:rPr>
              <a:t>(3.14, "this is a string"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ica functions with multiple results return tup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Example: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DejaVu Sans"/>
              </a:rPr>
              <a:t>(a,b,c) := foo(x, 2, 3, 5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1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Option Type Construct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2"/>
          <p:cNvSpPr/>
          <p:nvPr/>
        </p:nvSpPr>
        <p:spPr>
          <a:xfrm>
            <a:off x="203040" y="1125360"/>
            <a:ext cx="8699760" cy="34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Op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type constructor, parameterized by some type (e.g.,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Type_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) creates a kind of uniontype with the predefined constructor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NONE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SOME(...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굴림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굴림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굴림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굴림"/>
              </a:rPr>
              <a:t>	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he constan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NONE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with no arguments automatically belongs to any option type. A constructor call such a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굴림"/>
              </a:rPr>
              <a:t>SOME(x1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wher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x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has the 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Type_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, has the 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Option&lt;Type_a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ghly equivalent to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0" name="Group 3"/>
          <p:cNvGrpSpPr/>
          <p:nvPr/>
        </p:nvGrpSpPr>
        <p:grpSpPr>
          <a:xfrm>
            <a:off x="888840" y="4660920"/>
            <a:ext cx="7083720" cy="1370160"/>
            <a:chOff x="888840" y="4660920"/>
            <a:chExt cx="7083720" cy="1370160"/>
          </a:xfrm>
        </p:grpSpPr>
        <p:sp>
          <p:nvSpPr>
            <p:cNvPr id="261" name="Rectangle 4"/>
            <p:cNvSpPr/>
            <p:nvPr/>
          </p:nvSpPr>
          <p:spPr>
            <a:xfrm>
              <a:off x="1015920" y="4699080"/>
              <a:ext cx="6956640" cy="1332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5"/>
            <p:cNvSpPr/>
            <p:nvPr/>
          </p:nvSpPr>
          <p:spPr>
            <a:xfrm>
              <a:off x="888840" y="4660920"/>
              <a:ext cx="6956640" cy="13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6"/>
            <p:cNvSpPr/>
            <p:nvPr/>
          </p:nvSpPr>
          <p:spPr>
            <a:xfrm>
              <a:off x="896760" y="4665600"/>
              <a:ext cx="69105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uniontype Option&lt;Type_a&gt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cord NONE  end NONE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cord SOME  Type_a x1;  end SOME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end Option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Group 7"/>
          <p:cNvGrpSpPr/>
          <p:nvPr/>
        </p:nvGrpSpPr>
        <p:grpSpPr>
          <a:xfrm>
            <a:off x="914400" y="2082960"/>
            <a:ext cx="6727680" cy="769680"/>
            <a:chOff x="914400" y="2082960"/>
            <a:chExt cx="6727680" cy="769680"/>
          </a:xfrm>
        </p:grpSpPr>
        <p:sp>
          <p:nvSpPr>
            <p:cNvPr id="265" name="Rectangle 8"/>
            <p:cNvSpPr/>
            <p:nvPr/>
          </p:nvSpPr>
          <p:spPr>
            <a:xfrm>
              <a:off x="1035000" y="2103480"/>
              <a:ext cx="6607080" cy="749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9"/>
            <p:cNvSpPr/>
            <p:nvPr/>
          </p:nvSpPr>
          <p:spPr>
            <a:xfrm>
              <a:off x="914400" y="2082960"/>
              <a:ext cx="6607080" cy="74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0"/>
            <p:cNvSpPr/>
            <p:nvPr/>
          </p:nvSpPr>
          <p:spPr>
            <a:xfrm>
              <a:off x="920880" y="2085840"/>
              <a:ext cx="6565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replaceable type Type_a subtypeof Any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type Option_a = Option&lt;Type_a&gt;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1"/>
          <p:cNvSpPr/>
          <p:nvPr/>
        </p:nvSpPr>
        <p:spPr>
          <a:xfrm>
            <a:off x="203040" y="23184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Testing for Failu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2"/>
          <p:cNvSpPr/>
          <p:nvPr/>
        </p:nvSpPr>
        <p:spPr>
          <a:xfrm>
            <a:off x="203040" y="1087560"/>
            <a:ext cx="894096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ocal equation may fail or succee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uiltin equation operat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ail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rg) succeeds i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r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ails, whe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r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local equ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0" name="Group 3"/>
          <p:cNvGrpSpPr/>
          <p:nvPr/>
        </p:nvGrpSpPr>
        <p:grpSpPr>
          <a:xfrm>
            <a:off x="876240" y="4394160"/>
            <a:ext cx="6703920" cy="1164240"/>
            <a:chOff x="876240" y="4394160"/>
            <a:chExt cx="6703920" cy="1164240"/>
          </a:xfrm>
        </p:grpSpPr>
        <p:sp>
          <p:nvSpPr>
            <p:cNvPr id="271" name="Rectangle 4"/>
            <p:cNvSpPr/>
            <p:nvPr/>
          </p:nvSpPr>
          <p:spPr>
            <a:xfrm>
              <a:off x="1025640" y="4427640"/>
              <a:ext cx="6291000" cy="944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5"/>
            <p:cNvSpPr/>
            <p:nvPr/>
          </p:nvSpPr>
          <p:spPr>
            <a:xfrm>
              <a:off x="876240" y="4394160"/>
              <a:ext cx="6330960" cy="95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6"/>
            <p:cNvSpPr/>
            <p:nvPr/>
          </p:nvSpPr>
          <p:spPr>
            <a:xfrm>
              <a:off x="925560" y="4398840"/>
              <a:ext cx="66546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case ((id2,_) :: rest, id) 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equation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failure(true =  id ==&amp; id2);  value = lookup(rest,id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then value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4" name="Rectangle 7"/>
          <p:cNvSpPr/>
          <p:nvPr/>
        </p:nvSpPr>
        <p:spPr>
          <a:xfrm>
            <a:off x="444600" y="3513240"/>
            <a:ext cx="396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, testing for failure in Modelica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1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Generating a fail "Exception"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2"/>
          <p:cNvSpPr/>
          <p:nvPr/>
        </p:nvSpPr>
        <p:spPr>
          <a:xfrm>
            <a:off x="20304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all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ail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ll fail the current case-branch in the match-expression and continue with the next branch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re are no more case-branches, the enclosing function will fail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xpression or equation may fail for other reasons, e.g. division by zero, no match, unsolvable equation, et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1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as-expressions in Pattern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0" y="1006560"/>
            <a:ext cx="9144000" cy="57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unbound local variable (declar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oc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can be set equal to an expression in a pattern expression through an as-expresson 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var as subexp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used to give another name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ubexp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ame variable may only be associated with one 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alue of the expression equation 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var as subexp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i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ubexp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DejaVu Sans"/>
              </a:rPr>
              <a:t>(a as Absyn.IDENT("der"), expl,b,c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1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match and matchcontinu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2"/>
          <p:cNvSpPr/>
          <p:nvPr/>
        </p:nvSpPr>
        <p:spPr>
          <a:xfrm>
            <a:off x="0" y="1006560"/>
            <a:ext cx="9144000" cy="20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Modelica has two different match-express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matchcontinue runs all matching cases in order until it finds one that succee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match runs only the first matching ca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both are useful to describe different program flow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1" name="Group 3"/>
          <p:cNvGrpSpPr/>
          <p:nvPr/>
        </p:nvGrpSpPr>
        <p:grpSpPr>
          <a:xfrm>
            <a:off x="179280" y="3192480"/>
            <a:ext cx="5218200" cy="1846080"/>
            <a:chOff x="179280" y="3192480"/>
            <a:chExt cx="5218200" cy="1846080"/>
          </a:xfrm>
        </p:grpSpPr>
        <p:sp>
          <p:nvSpPr>
            <p:cNvPr id="282" name="Rectangle 4"/>
            <p:cNvSpPr/>
            <p:nvPr/>
          </p:nvSpPr>
          <p:spPr>
            <a:xfrm>
              <a:off x="263520" y="3216240"/>
              <a:ext cx="5133960" cy="18223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5"/>
            <p:cNvSpPr/>
            <p:nvPr/>
          </p:nvSpPr>
          <p:spPr>
            <a:xfrm>
              <a:off x="179280" y="3192480"/>
              <a:ext cx="5133960" cy="182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function notOne "Fails if the input is not 1"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 Integer i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algorithm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_ := match i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case 1 then fail(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// Do stuff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d match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d notOne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4" name="Group 6"/>
          <p:cNvGrpSpPr/>
          <p:nvPr/>
        </p:nvGrpSpPr>
        <p:grpSpPr>
          <a:xfrm>
            <a:off x="3060720" y="3600360"/>
            <a:ext cx="5757840" cy="2697120"/>
            <a:chOff x="3060720" y="3600360"/>
            <a:chExt cx="5757840" cy="2697120"/>
          </a:xfrm>
        </p:grpSpPr>
        <p:sp>
          <p:nvSpPr>
            <p:cNvPr id="285" name="Rectangle 7"/>
            <p:cNvSpPr/>
            <p:nvPr/>
          </p:nvSpPr>
          <p:spPr>
            <a:xfrm>
              <a:off x="3152880" y="3633840"/>
              <a:ext cx="5665680" cy="2663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8"/>
            <p:cNvSpPr/>
            <p:nvPr/>
          </p:nvSpPr>
          <p:spPr>
            <a:xfrm>
              <a:off x="3060720" y="3600360"/>
              <a:ext cx="5665680" cy="266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function notOne "Fails if the input is not 1"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 Integer i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algorithm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_ := matchcontinue i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case i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quation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// This constraint needs to be added to the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// beginning of every subsequent case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false = i == 1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// Do stuff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d matchcontinue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d notOne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1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Summary of New MetaModelica Reserved Wo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2"/>
          <p:cNvSpPr/>
          <p:nvPr/>
        </p:nvSpPr>
        <p:spPr>
          <a:xfrm>
            <a:off x="177840" y="1006560"/>
            <a:ext cx="896616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_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Underscore is a reserved word used as a pattern placeholder, name placeholder in anonymous functions, types, classes, etc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matc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used in match-expressions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matchcontinu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used in matchcontinue-expressions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cas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used in match/matchcontinue-expressions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loc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used for local declarations in match expressions, etc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uniontyp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or union type declarations, e.g. tree data types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or as-expression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1301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1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Summary of New Reserved Words Cont'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2"/>
          <p:cNvSpPr/>
          <p:nvPr/>
        </p:nvSpPr>
        <p:spPr>
          <a:xfrm>
            <a:off x="0" y="1006560"/>
            <a:ext cx="9144000" cy="57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uld be a reserved word, but this is not necessary since it is only used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(...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Op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predefined parameterized union typ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1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Summary of New Builtin Functions and Operato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2"/>
          <p:cNvSpPr/>
          <p:nvPr/>
        </p:nvSpPr>
        <p:spPr>
          <a:xfrm>
            <a:off x="203040" y="1125360"/>
            <a:ext cx="894096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...&gt; – list type constructor, in type contex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...&gt; – tuple type constructo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...) – list data constructor, in expression contex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con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lemen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l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– attach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lemen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t front of list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ls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fai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) –  Raise fail exception, having null valu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..., ..., ...) or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..., ..., ...) – tuple data constructo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 List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con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perato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1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2"/>
          <p:cNvSpPr/>
          <p:nvPr/>
        </p:nvSpPr>
        <p:spPr>
          <a:xfrm>
            <a:off x="343080" y="1163520"/>
            <a:ext cx="8343720" cy="51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-modeling increasingly important, also for the Modelica language and its applic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-modeling/meta-programming extensions allow writing a Modelica compiler in Modelic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ons are recursive union types (trees), lists, and match-expressions – standard constructs found in functional languag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Modelica compiler implemented using MetaModelica extensions since March 2006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ping - Ongoing work to compile OpenModelica compiler using itself, completed spring 2011 (excluding garbage collectio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Some Semantics Modeling Approach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203040" y="1125360"/>
            <a:ext cx="8382240" cy="53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bility - allow models to also model language propert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tologies to classify application doma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For example, semantic web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ation-based approach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Modelica – hybrid differential algebraic equ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Single-assignment equations – functional languages, SOS/Natural semantic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Unification equations: logic programming and functional languages, SOS/Natural semantic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Can usually be efficiently execute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ic approach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First-order logic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Often computationally intractable for realistic applications in its general for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Meta-Level Operations on Mod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20304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Oper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Cre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Que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Manipul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Compos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Managemen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ipulation of model equations f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Optimization purpos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Paralleliz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Model checkin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Simulation with different solv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ular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Allow model packages for tool extens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Example: Automatic PDE discretization schem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Meta-Level Operations on Models, Cont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20304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configuration for simulation purpos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Initial stat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Initialization via xml data files or databas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ation featu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Running a simulation and display a resul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Running more simulations in parall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Handle simulation failures and continue the simulation in a different wa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Possibility to generate ONLY specific data from a simul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Possibility to manipulate simulation data for export to another too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Meta-Modelica Compiler (MMC) and Langua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20304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Modelica is an extende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bse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Modelic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RML compiler supports only MetaModelic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OMC supports Modelica 3.1 + MetaModelic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for development of OM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MetaModelica Language propertie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Modelica syntax and base semantic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Pattern matching (named/positional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Local equations (local within expression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Recursive tree data structure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Lists and tuple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Garbage collection of heap-allocated data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Arrays (different from standard Modelica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Vectors (array with local update as in standard Modelica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Polymorphic function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Function formal parameters to function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Simple builtin exception (failure) handling mechanis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Many of these features come from functional programming language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A Simple match-Expression Examp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203040" y="1125360"/>
            <a:ext cx="751860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, returning a number, given a string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4" name="Group 3"/>
          <p:cNvGrpSpPr/>
          <p:nvPr/>
        </p:nvGrpSpPr>
        <p:grpSpPr>
          <a:xfrm>
            <a:off x="1282680" y="2120760"/>
            <a:ext cx="4049640" cy="2970360"/>
            <a:chOff x="1282680" y="2120760"/>
            <a:chExt cx="4049640" cy="2970360"/>
          </a:xfrm>
        </p:grpSpPr>
        <p:sp>
          <p:nvSpPr>
            <p:cNvPr id="115" name="Rectangle 4"/>
            <p:cNvSpPr/>
            <p:nvPr/>
          </p:nvSpPr>
          <p:spPr>
            <a:xfrm>
              <a:off x="1355760" y="2281320"/>
              <a:ext cx="3976560" cy="28098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Rectangle 5"/>
            <p:cNvSpPr/>
            <p:nvPr/>
          </p:nvSpPr>
          <p:spPr>
            <a:xfrm>
              <a:off x="1282680" y="2120760"/>
              <a:ext cx="3976560" cy="2810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Rectangle 6"/>
            <p:cNvSpPr/>
            <p:nvPr/>
          </p:nvSpPr>
          <p:spPr>
            <a:xfrm>
              <a:off x="1287360" y="2131920"/>
              <a:ext cx="3949920" cy="25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String s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Real   x;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algorithm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x :=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matchcontinue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case "one"   then 1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case "two"   then 2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case "three" then 3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else              0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end matchcontinue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Tree Types – uniontype Declaration Examp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203040" y="1125360"/>
            <a:ext cx="375768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on types specifies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n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one or more record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on types can b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cursiv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can reference themselv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xp type is a union type of three record typ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constructors INT, NEG and AD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usage is abstract syntax tree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" name="Group 3"/>
          <p:cNvGrpSpPr/>
          <p:nvPr/>
        </p:nvGrpSpPr>
        <p:grpSpPr>
          <a:xfrm>
            <a:off x="4000680" y="1816200"/>
            <a:ext cx="5065560" cy="1458720"/>
            <a:chOff x="4000680" y="1816200"/>
            <a:chExt cx="5065560" cy="1458720"/>
          </a:xfrm>
        </p:grpSpPr>
        <p:sp>
          <p:nvSpPr>
            <p:cNvPr id="121" name="Rectangle 4"/>
            <p:cNvSpPr/>
            <p:nvPr/>
          </p:nvSpPr>
          <p:spPr>
            <a:xfrm>
              <a:off x="4054320" y="1882800"/>
              <a:ext cx="5011920" cy="1392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5"/>
            <p:cNvSpPr/>
            <p:nvPr/>
          </p:nvSpPr>
          <p:spPr>
            <a:xfrm>
              <a:off x="4000680" y="1816200"/>
              <a:ext cx="5011560" cy="139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6"/>
            <p:cNvSpPr/>
            <p:nvPr/>
          </p:nvSpPr>
          <p:spPr>
            <a:xfrm>
              <a:off x="4006800" y="1822320"/>
              <a:ext cx="497844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uniontype Exp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cord INT  Integer x1;     end INT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cord NEG  Exp x1;         end NEG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cord ADD  Exp x1; Exp x2; end ADD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end Exp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4" name="Rectangle 7"/>
          <p:cNvSpPr/>
          <p:nvPr/>
        </p:nvSpPr>
        <p:spPr>
          <a:xfrm>
            <a:off x="3959280" y="127620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Modelica  tree type declaration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" name="Group 8"/>
          <p:cNvGrpSpPr/>
          <p:nvPr/>
        </p:nvGrpSpPr>
        <p:grpSpPr>
          <a:xfrm>
            <a:off x="6814080" y="3884760"/>
            <a:ext cx="1376640" cy="1285560"/>
            <a:chOff x="6814080" y="3884760"/>
            <a:chExt cx="1376640" cy="1285560"/>
          </a:xfrm>
        </p:grpSpPr>
        <p:sp>
          <p:nvSpPr>
            <p:cNvPr id="126" name="Rectangle 9"/>
            <p:cNvSpPr/>
            <p:nvPr/>
          </p:nvSpPr>
          <p:spPr>
            <a:xfrm>
              <a:off x="7248240" y="3897360"/>
              <a:ext cx="412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ADD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10"/>
            <p:cNvSpPr/>
            <p:nvPr/>
          </p:nvSpPr>
          <p:spPr>
            <a:xfrm>
              <a:off x="6814080" y="4543560"/>
              <a:ext cx="31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INT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Rectangle 11"/>
            <p:cNvSpPr/>
            <p:nvPr/>
          </p:nvSpPr>
          <p:spPr>
            <a:xfrm>
              <a:off x="6958080" y="4778280"/>
              <a:ext cx="12600" cy="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12"/>
            <p:cNvSpPr/>
            <p:nvPr/>
          </p:nvSpPr>
          <p:spPr>
            <a:xfrm>
              <a:off x="6958080" y="4956120"/>
              <a:ext cx="12600" cy="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13"/>
            <p:cNvSpPr/>
            <p:nvPr/>
          </p:nvSpPr>
          <p:spPr>
            <a:xfrm>
              <a:off x="6958080" y="4778280"/>
              <a:ext cx="12600" cy="176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Rectangle 14"/>
            <p:cNvSpPr/>
            <p:nvPr/>
          </p:nvSpPr>
          <p:spPr>
            <a:xfrm>
              <a:off x="6930360" y="494172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Rectangle 15"/>
            <p:cNvSpPr/>
            <p:nvPr/>
          </p:nvSpPr>
          <p:spPr>
            <a:xfrm>
              <a:off x="7872840" y="4543560"/>
              <a:ext cx="31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INT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Rectangle 16"/>
            <p:cNvSpPr/>
            <p:nvPr/>
          </p:nvSpPr>
          <p:spPr>
            <a:xfrm>
              <a:off x="8040600" y="4778280"/>
              <a:ext cx="12960" cy="3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Rectangle 17"/>
            <p:cNvSpPr/>
            <p:nvPr/>
          </p:nvSpPr>
          <p:spPr>
            <a:xfrm>
              <a:off x="8040600" y="4956120"/>
              <a:ext cx="12960" cy="3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Rectangle 18"/>
            <p:cNvSpPr/>
            <p:nvPr/>
          </p:nvSpPr>
          <p:spPr>
            <a:xfrm>
              <a:off x="8040600" y="4778280"/>
              <a:ext cx="12960" cy="1764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Rectangle 19"/>
            <p:cNvSpPr/>
            <p:nvPr/>
          </p:nvSpPr>
          <p:spPr>
            <a:xfrm>
              <a:off x="7957080" y="494172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44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20"/>
            <p:cNvSpPr/>
            <p:nvPr/>
          </p:nvSpPr>
          <p:spPr>
            <a:xfrm>
              <a:off x="7507440" y="388476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0" y="8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21"/>
            <p:cNvSpPr/>
            <p:nvPr/>
          </p:nvSpPr>
          <p:spPr>
            <a:xfrm>
              <a:off x="7507440" y="4159080"/>
              <a:ext cx="10800" cy="12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8" h="9">
                  <a:moveTo>
                    <a:pt x="8" y="9"/>
                  </a:moveTo>
                  <a:lnTo>
                    <a:pt x="8" y="9"/>
                  </a:lnTo>
                  <a:lnTo>
                    <a:pt x="0" y="0"/>
                  </a:lnTo>
                  <a:lnTo>
                    <a:pt x="8" y="9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22"/>
            <p:cNvSpPr/>
            <p:nvPr/>
          </p:nvSpPr>
          <p:spPr>
            <a:xfrm>
              <a:off x="6958080" y="4557600"/>
              <a:ext cx="12600" cy="129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9" h="9">
                  <a:moveTo>
                    <a:pt x="9" y="9"/>
                  </a:moveTo>
                  <a:lnTo>
                    <a:pt x="9" y="9"/>
                  </a:lnTo>
                  <a:lnTo>
                    <a:pt x="0" y="0"/>
                  </a:lnTo>
                  <a:lnTo>
                    <a:pt x="9" y="9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23"/>
            <p:cNvSpPr/>
            <p:nvPr/>
          </p:nvSpPr>
          <p:spPr>
            <a:xfrm>
              <a:off x="6958080" y="4159080"/>
              <a:ext cx="560160" cy="411480"/>
            </a:xfrm>
            <a:custGeom>
              <a:avLst/>
              <a:gdLst>
                <a:gd name="textAreaLeft" fmla="*/ 0 w 560160"/>
                <a:gd name="textAreaRight" fmla="*/ 560520 w 560160"/>
                <a:gd name="textAreaTop" fmla="*/ 0 h 411480"/>
                <a:gd name="textAreaBottom" fmla="*/ 411840 h 411480"/>
              </a:gdLst>
              <a:ahLst/>
              <a:rect l="textAreaLeft" t="textAreaTop" r="textAreaRight" b="textAreaBottom"/>
              <a:pathLst>
                <a:path w="354" h="260">
                  <a:moveTo>
                    <a:pt x="354" y="9"/>
                  </a:moveTo>
                  <a:lnTo>
                    <a:pt x="346" y="0"/>
                  </a:lnTo>
                  <a:lnTo>
                    <a:pt x="0" y="251"/>
                  </a:lnTo>
                  <a:lnTo>
                    <a:pt x="9" y="260"/>
                  </a:lnTo>
                  <a:lnTo>
                    <a:pt x="35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24"/>
            <p:cNvSpPr/>
            <p:nvPr/>
          </p:nvSpPr>
          <p:spPr>
            <a:xfrm>
              <a:off x="7507440" y="4159080"/>
              <a:ext cx="10800" cy="12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8" h="9">
                  <a:moveTo>
                    <a:pt x="8" y="0"/>
                  </a:moveTo>
                  <a:lnTo>
                    <a:pt x="8" y="0"/>
                  </a:lnTo>
                  <a:lnTo>
                    <a:pt x="0" y="9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25"/>
            <p:cNvSpPr/>
            <p:nvPr/>
          </p:nvSpPr>
          <p:spPr>
            <a:xfrm>
              <a:off x="8055000" y="4557600"/>
              <a:ext cx="12600" cy="129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9" h="9">
                  <a:moveTo>
                    <a:pt x="9" y="0"/>
                  </a:moveTo>
                  <a:lnTo>
                    <a:pt x="9" y="0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26"/>
            <p:cNvSpPr/>
            <p:nvPr/>
          </p:nvSpPr>
          <p:spPr>
            <a:xfrm>
              <a:off x="7507440" y="4159080"/>
              <a:ext cx="560160" cy="411480"/>
            </a:xfrm>
            <a:custGeom>
              <a:avLst/>
              <a:gdLst>
                <a:gd name="textAreaLeft" fmla="*/ 0 w 560160"/>
                <a:gd name="textAreaRight" fmla="*/ 560520 w 560160"/>
                <a:gd name="textAreaTop" fmla="*/ 0 h 411480"/>
                <a:gd name="textAreaBottom" fmla="*/ 411840 h 411480"/>
              </a:gdLst>
              <a:ahLst/>
              <a:rect l="textAreaLeft" t="textAreaTop" r="textAreaRight" b="textAreaBottom"/>
              <a:pathLst>
                <a:path w="354" h="260">
                  <a:moveTo>
                    <a:pt x="8" y="0"/>
                  </a:moveTo>
                  <a:lnTo>
                    <a:pt x="0" y="9"/>
                  </a:lnTo>
                  <a:lnTo>
                    <a:pt x="345" y="260"/>
                  </a:lnTo>
                  <a:lnTo>
                    <a:pt x="354" y="25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4" name="Rectangle 27"/>
          <p:cNvSpPr/>
          <p:nvPr/>
        </p:nvSpPr>
        <p:spPr>
          <a:xfrm>
            <a:off x="3936960" y="4110120"/>
            <a:ext cx="29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DD(INT(6),INT(44)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1"/>
          <p:cNvSpPr/>
          <p:nvPr/>
        </p:nvSpPr>
        <p:spPr>
          <a:xfrm>
            <a:off x="203040" y="20628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Another uniontype Declaration of Exp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" name="Group 2"/>
          <p:cNvGrpSpPr/>
          <p:nvPr/>
        </p:nvGrpSpPr>
        <p:grpSpPr>
          <a:xfrm>
            <a:off x="3240000" y="2165400"/>
            <a:ext cx="5749920" cy="2692440"/>
            <a:chOff x="3240000" y="2165400"/>
            <a:chExt cx="5749920" cy="2692440"/>
          </a:xfrm>
        </p:grpSpPr>
        <p:sp>
          <p:nvSpPr>
            <p:cNvPr id="147" name="Rectangle 3"/>
            <p:cNvSpPr/>
            <p:nvPr/>
          </p:nvSpPr>
          <p:spPr>
            <a:xfrm>
              <a:off x="3300480" y="2287440"/>
              <a:ext cx="5689440" cy="25704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Rectangle 4"/>
            <p:cNvSpPr/>
            <p:nvPr/>
          </p:nvSpPr>
          <p:spPr>
            <a:xfrm>
              <a:off x="3240000" y="2165400"/>
              <a:ext cx="5689800" cy="257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uniontype Exp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cord INTconst Integer x1;  end INTconst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cord PLUSop  Exp x1; Exp x2; end PLUSop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cord SUBop   Exp x1; Exp x2; end SUBop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cord MULop   Exp x1; Exp x2; end MULop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cord DIVop   Exp x1; Exp x2; end DIVop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cord NEGop   Exp x1;         end NEGop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end Exp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9" name="Rectangle 5"/>
          <p:cNvSpPr/>
          <p:nvPr/>
        </p:nvSpPr>
        <p:spPr>
          <a:xfrm>
            <a:off x="3213000" y="1316160"/>
            <a:ext cx="57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tract syntax tree data type declaration of Exp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279360" y="4707000"/>
            <a:ext cx="29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2+5*13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Group 7"/>
          <p:cNvGrpSpPr/>
          <p:nvPr/>
        </p:nvGrpSpPr>
        <p:grpSpPr>
          <a:xfrm>
            <a:off x="144360" y="2158920"/>
            <a:ext cx="2986200" cy="2129040"/>
            <a:chOff x="144360" y="2158920"/>
            <a:chExt cx="2986200" cy="2129040"/>
          </a:xfrm>
        </p:grpSpPr>
        <p:sp>
          <p:nvSpPr>
            <p:cNvPr id="152" name="Rectangle 8"/>
            <p:cNvSpPr/>
            <p:nvPr/>
          </p:nvSpPr>
          <p:spPr>
            <a:xfrm>
              <a:off x="144360" y="2158920"/>
              <a:ext cx="2986200" cy="21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Rectangle 9"/>
            <p:cNvSpPr/>
            <p:nvPr/>
          </p:nvSpPr>
          <p:spPr>
            <a:xfrm>
              <a:off x="1117440" y="2158920"/>
              <a:ext cx="659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PLUSop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Rectangle 10"/>
            <p:cNvSpPr/>
            <p:nvPr/>
          </p:nvSpPr>
          <p:spPr>
            <a:xfrm>
              <a:off x="1928520" y="2982960"/>
              <a:ext cx="614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MULop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Rectangle 11"/>
            <p:cNvSpPr/>
            <p:nvPr/>
          </p:nvSpPr>
          <p:spPr>
            <a:xfrm>
              <a:off x="163080" y="298296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INTconst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Rectangle 12"/>
            <p:cNvSpPr/>
            <p:nvPr/>
          </p:nvSpPr>
          <p:spPr>
            <a:xfrm>
              <a:off x="514440" y="3218040"/>
              <a:ext cx="12600" cy="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>
              <a:off x="514440" y="3395520"/>
              <a:ext cx="12600" cy="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>
              <a:off x="514440" y="3218040"/>
              <a:ext cx="12600" cy="1760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Rectangle 15"/>
            <p:cNvSpPr/>
            <p:nvPr/>
          </p:nvSpPr>
          <p:spPr>
            <a:xfrm>
              <a:off x="429120" y="338292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Rectangle 16"/>
            <p:cNvSpPr/>
            <p:nvPr/>
          </p:nvSpPr>
          <p:spPr>
            <a:xfrm>
              <a:off x="1272600" y="362916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INTconst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Rectangle 17"/>
            <p:cNvSpPr/>
            <p:nvPr/>
          </p:nvSpPr>
          <p:spPr>
            <a:xfrm>
              <a:off x="1623960" y="3863880"/>
              <a:ext cx="12600" cy="3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Rectangle 18"/>
            <p:cNvSpPr/>
            <p:nvPr/>
          </p:nvSpPr>
          <p:spPr>
            <a:xfrm>
              <a:off x="1623960" y="4041720"/>
              <a:ext cx="12600" cy="3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Rectangle 19"/>
            <p:cNvSpPr/>
            <p:nvPr/>
          </p:nvSpPr>
          <p:spPr>
            <a:xfrm>
              <a:off x="1623960" y="3863880"/>
              <a:ext cx="12600" cy="1764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Rectangle 20"/>
            <p:cNvSpPr/>
            <p:nvPr/>
          </p:nvSpPr>
          <p:spPr>
            <a:xfrm>
              <a:off x="1596240" y="402732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Rectangle 21"/>
            <p:cNvSpPr/>
            <p:nvPr/>
          </p:nvSpPr>
          <p:spPr>
            <a:xfrm>
              <a:off x="2369520" y="362916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INTconst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Rectangle 22"/>
            <p:cNvSpPr/>
            <p:nvPr/>
          </p:nvSpPr>
          <p:spPr>
            <a:xfrm>
              <a:off x="2706840" y="3863880"/>
              <a:ext cx="12600" cy="3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Rectangle 23"/>
            <p:cNvSpPr/>
            <p:nvPr/>
          </p:nvSpPr>
          <p:spPr>
            <a:xfrm>
              <a:off x="2706840" y="4041720"/>
              <a:ext cx="12600" cy="3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Rectangle 24"/>
            <p:cNvSpPr/>
            <p:nvPr/>
          </p:nvSpPr>
          <p:spPr>
            <a:xfrm>
              <a:off x="2706840" y="3863880"/>
              <a:ext cx="12600" cy="1764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Rectangle 25"/>
            <p:cNvSpPr/>
            <p:nvPr/>
          </p:nvSpPr>
          <p:spPr>
            <a:xfrm>
              <a:off x="2622960" y="402732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26"/>
            <p:cNvSpPr/>
            <p:nvPr/>
          </p:nvSpPr>
          <p:spPr>
            <a:xfrm>
              <a:off x="1363680" y="2421000"/>
              <a:ext cx="12600" cy="111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9" h="8">
                  <a:moveTo>
                    <a:pt x="9" y="8"/>
                  </a:moveTo>
                  <a:lnTo>
                    <a:pt x="9" y="8"/>
                  </a:lnTo>
                  <a:lnTo>
                    <a:pt x="0" y="0"/>
                  </a:lnTo>
                  <a:lnTo>
                    <a:pt x="9" y="8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27"/>
            <p:cNvSpPr/>
            <p:nvPr/>
          </p:nvSpPr>
          <p:spPr>
            <a:xfrm>
              <a:off x="541440" y="2970360"/>
              <a:ext cx="12600" cy="108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8">
                  <a:moveTo>
                    <a:pt x="9" y="8"/>
                  </a:moveTo>
                  <a:lnTo>
                    <a:pt x="9" y="8"/>
                  </a:lnTo>
                  <a:lnTo>
                    <a:pt x="0" y="0"/>
                  </a:lnTo>
                  <a:lnTo>
                    <a:pt x="9" y="8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28"/>
            <p:cNvSpPr/>
            <p:nvPr/>
          </p:nvSpPr>
          <p:spPr>
            <a:xfrm>
              <a:off x="541440" y="2421000"/>
              <a:ext cx="834840" cy="56016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560160"/>
                <a:gd name="textAreaBottom" fmla="*/ 560520 h 560160"/>
              </a:gdLst>
              <a:ahLst/>
              <a:rect l="textAreaLeft" t="textAreaTop" r="textAreaRight" b="textAreaBottom"/>
              <a:pathLst>
                <a:path w="527" h="354">
                  <a:moveTo>
                    <a:pt x="527" y="8"/>
                  </a:moveTo>
                  <a:lnTo>
                    <a:pt x="518" y="0"/>
                  </a:lnTo>
                  <a:lnTo>
                    <a:pt x="0" y="346"/>
                  </a:lnTo>
                  <a:lnTo>
                    <a:pt x="9" y="354"/>
                  </a:lnTo>
                  <a:lnTo>
                    <a:pt x="52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29"/>
            <p:cNvSpPr/>
            <p:nvPr/>
          </p:nvSpPr>
          <p:spPr>
            <a:xfrm>
              <a:off x="1363680" y="2421000"/>
              <a:ext cx="12600" cy="111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9" h="8">
                  <a:moveTo>
                    <a:pt x="9" y="0"/>
                  </a:moveTo>
                  <a:lnTo>
                    <a:pt x="9" y="0"/>
                  </a:lnTo>
                  <a:lnTo>
                    <a:pt x="0" y="8"/>
                  </a:lnTo>
                  <a:lnTo>
                    <a:pt x="9" y="0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30"/>
            <p:cNvSpPr/>
            <p:nvPr/>
          </p:nvSpPr>
          <p:spPr>
            <a:xfrm>
              <a:off x="2173320" y="2970360"/>
              <a:ext cx="11160" cy="108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0" y="8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31"/>
            <p:cNvSpPr/>
            <p:nvPr/>
          </p:nvSpPr>
          <p:spPr>
            <a:xfrm>
              <a:off x="1363680" y="2421000"/>
              <a:ext cx="820800" cy="560160"/>
            </a:xfrm>
            <a:custGeom>
              <a:avLst/>
              <a:gdLst>
                <a:gd name="textAreaLeft" fmla="*/ 0 w 820800"/>
                <a:gd name="textAreaRight" fmla="*/ 821160 w 820800"/>
                <a:gd name="textAreaTop" fmla="*/ 0 h 560160"/>
                <a:gd name="textAreaBottom" fmla="*/ 560520 h 560160"/>
              </a:gdLst>
              <a:ahLst/>
              <a:rect l="textAreaLeft" t="textAreaTop" r="textAreaRight" b="textAreaBottom"/>
              <a:pathLst>
                <a:path w="518" h="354">
                  <a:moveTo>
                    <a:pt x="9" y="0"/>
                  </a:moveTo>
                  <a:lnTo>
                    <a:pt x="0" y="8"/>
                  </a:lnTo>
                  <a:lnTo>
                    <a:pt x="510" y="354"/>
                  </a:lnTo>
                  <a:lnTo>
                    <a:pt x="518" y="3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32"/>
            <p:cNvSpPr/>
            <p:nvPr/>
          </p:nvSpPr>
          <p:spPr>
            <a:xfrm>
              <a:off x="2173320" y="3244680"/>
              <a:ext cx="11160" cy="129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8" h="9">
                  <a:moveTo>
                    <a:pt x="8" y="9"/>
                  </a:moveTo>
                  <a:lnTo>
                    <a:pt x="8" y="9"/>
                  </a:lnTo>
                  <a:lnTo>
                    <a:pt x="0" y="0"/>
                  </a:lnTo>
                  <a:lnTo>
                    <a:pt x="8" y="9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33"/>
            <p:cNvSpPr/>
            <p:nvPr/>
          </p:nvSpPr>
          <p:spPr>
            <a:xfrm>
              <a:off x="1623960" y="3643200"/>
              <a:ext cx="12600" cy="129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9" h="9">
                  <a:moveTo>
                    <a:pt x="9" y="9"/>
                  </a:moveTo>
                  <a:lnTo>
                    <a:pt x="9" y="9"/>
                  </a:lnTo>
                  <a:lnTo>
                    <a:pt x="0" y="0"/>
                  </a:lnTo>
                  <a:lnTo>
                    <a:pt x="9" y="9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34"/>
            <p:cNvSpPr/>
            <p:nvPr/>
          </p:nvSpPr>
          <p:spPr>
            <a:xfrm>
              <a:off x="1623960" y="3244680"/>
              <a:ext cx="560520" cy="411480"/>
            </a:xfrm>
            <a:custGeom>
              <a:avLst/>
              <a:gdLst>
                <a:gd name="textAreaLeft" fmla="*/ 0 w 560520"/>
                <a:gd name="textAreaRight" fmla="*/ 560880 w 560520"/>
                <a:gd name="textAreaTop" fmla="*/ 0 h 411480"/>
                <a:gd name="textAreaBottom" fmla="*/ 411840 h 411480"/>
              </a:gdLst>
              <a:ahLst/>
              <a:rect l="textAreaLeft" t="textAreaTop" r="textAreaRight" b="textAreaBottom"/>
              <a:pathLst>
                <a:path w="354" h="260">
                  <a:moveTo>
                    <a:pt x="354" y="9"/>
                  </a:moveTo>
                  <a:lnTo>
                    <a:pt x="346" y="0"/>
                  </a:lnTo>
                  <a:lnTo>
                    <a:pt x="0" y="251"/>
                  </a:lnTo>
                  <a:lnTo>
                    <a:pt x="9" y="260"/>
                  </a:lnTo>
                  <a:lnTo>
                    <a:pt x="35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35"/>
            <p:cNvSpPr/>
            <p:nvPr/>
          </p:nvSpPr>
          <p:spPr>
            <a:xfrm>
              <a:off x="2173320" y="3244680"/>
              <a:ext cx="11160" cy="129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8" h="9">
                  <a:moveTo>
                    <a:pt x="8" y="0"/>
                  </a:moveTo>
                  <a:lnTo>
                    <a:pt x="8" y="0"/>
                  </a:lnTo>
                  <a:lnTo>
                    <a:pt x="0" y="9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36"/>
            <p:cNvSpPr/>
            <p:nvPr/>
          </p:nvSpPr>
          <p:spPr>
            <a:xfrm>
              <a:off x="2720880" y="3643200"/>
              <a:ext cx="12960" cy="129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9" h="9">
                  <a:moveTo>
                    <a:pt x="9" y="0"/>
                  </a:moveTo>
                  <a:lnTo>
                    <a:pt x="9" y="0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37"/>
            <p:cNvSpPr/>
            <p:nvPr/>
          </p:nvSpPr>
          <p:spPr>
            <a:xfrm>
              <a:off x="2173320" y="3244680"/>
              <a:ext cx="560520" cy="411480"/>
            </a:xfrm>
            <a:custGeom>
              <a:avLst/>
              <a:gdLst>
                <a:gd name="textAreaLeft" fmla="*/ 0 w 560520"/>
                <a:gd name="textAreaRight" fmla="*/ 560880 w 560520"/>
                <a:gd name="textAreaTop" fmla="*/ 0 h 411480"/>
                <a:gd name="textAreaBottom" fmla="*/ 411840 h 411480"/>
              </a:gdLst>
              <a:ahLst/>
              <a:rect l="textAreaLeft" t="textAreaTop" r="textAreaRight" b="textAreaBottom"/>
              <a:pathLst>
                <a:path w="354" h="260">
                  <a:moveTo>
                    <a:pt x="8" y="0"/>
                  </a:moveTo>
                  <a:lnTo>
                    <a:pt x="0" y="9"/>
                  </a:lnTo>
                  <a:lnTo>
                    <a:pt x="345" y="260"/>
                  </a:lnTo>
                  <a:lnTo>
                    <a:pt x="354" y="25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2" name="Rectangle 38"/>
          <p:cNvSpPr/>
          <p:nvPr/>
        </p:nvSpPr>
        <p:spPr>
          <a:xfrm>
            <a:off x="266760" y="5430960"/>
            <a:ext cx="564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LUSop(INTconst(12)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ULop(INTconst(5),INTconst(13))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13:07:46Z</dcterms:created>
  <dc:creator>Peter Fritzson</dc:creator>
  <dc:description/>
  <dc:language>en-US</dc:language>
  <cp:lastModifiedBy>Martin Sjolund</cp:lastModifiedBy>
  <dcterms:modified xsi:type="dcterms:W3CDTF">2011-09-15T15:53:00Z</dcterms:modified>
  <cp:revision>576</cp:revision>
  <dc:subject/>
  <dc:title>Slide 1</dc:title>
</cp:coreProperties>
</file>